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A19-E2CF-47B7-A5D4-A2780A7B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DD3-2975-483C-9540-76D1DAED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E914-A42C-4DCC-B411-3819B5E6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8997-4AB8-494F-BF5B-9D150755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4F2C-4FA9-48A1-A098-2558A22D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AC9-7CF3-4D5F-BD9E-8FF26879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B61-E138-4A6D-9DC9-C595144E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ED9-945F-402E-9EDC-83826020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0CD-C9CB-4175-B2E1-4322DEF9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05F-110D-40BE-B968-2ECF1281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42F-7ACD-44BF-9246-AF9AD0C0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743-B897-4641-9BB3-767D4A45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B913-5D8B-4341-BA28-0C939F334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3657600"/>
            <a:ext cx="4267440" cy="304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4191120" cy="313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800600" y="1332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6320" y="2286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36576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264960"/>
            <a:ext cx="4267440" cy="285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24280" y="76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800600" y="3809880"/>
            <a:ext cx="4191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203040"/>
            <a:ext cx="4343400" cy="292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361944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105520" y="3581280"/>
            <a:ext cx="3625560" cy="3206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876920" y="82440"/>
            <a:ext cx="40384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191120" cy="2792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2280" y="225360"/>
            <a:ext cx="4343400" cy="2898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00600" y="311040"/>
            <a:ext cx="4267080" cy="273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724280" y="3733920"/>
            <a:ext cx="42674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724280" y="274680"/>
            <a:ext cx="4267440" cy="292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42674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9-02-20T18:04:31Z</dcterms:modified>
  <cp:revision>11</cp:revision>
  <dc:subject/>
  <dc:title>Slide 1</dc:title>
</cp:coreProperties>
</file>